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C8F-1BCD-4712-8456-109BCFF2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464-DAF7-4423-8A46-861D74B3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BCB-A346-4A47-84A4-820E30D8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B47-67B3-46BD-B7CA-608AA5E6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1460-63D6-4B5A-81CE-B469DD20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24F7-687E-4101-A169-2575A19A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FA10-884C-4368-9EAA-A76C41D8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1CE-B05B-4A50-9D85-BDDCF744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55F8-C6CA-44C6-B8F6-89005444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B141-1CDD-4C67-907A-550B80D3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BDF3-E2D8-4A95-BBE3-4B0D316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277-7D32-4718-964A-E53A6E8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C86-E0BE-4686-A2FA-AAF9FED6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FE19-25BB-46C6-872D-F462778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DAD2-F7EA-4904-9846-413FFB55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513C-D831-4CFC-96C2-6B8DE7F9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0F3-AF38-432E-9003-D4CC13CA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E1E-FA49-4C56-90E1-133A711C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B89-440E-4B38-A972-A64C5D9E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988-6367-4456-B74D-BD5C0C9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16C-76E7-4E5F-BA2D-E940B48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9A5-1956-4EF3-99C4-993B8E5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785-05AB-4EA2-9188-5F26258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090-08A3-43E3-AFCF-8CAFF6C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5B19-2D1C-423E-90B3-8DA0A2E13B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453-86BB-4DC2-9F96-BA6947A9E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nchantedlearning.com/subjects/astronomy/glossary/indexh.shtml#hydrogen" TargetMode="External"/><Relationship Id="rId3" Type="http://schemas.openxmlformats.org/officeDocument/2006/relationships/hyperlink" Target="http://www.enchantedlearning.com/subjects/astronomy/glossary/indexh.shtml#helium" TargetMode="Externa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Plane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8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8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8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Before we start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We are going to learn about each planet and their unique fea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We will also look at many of the huge distances found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TRONOMICAL UNIT (AU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9 597 870.691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astronomical unit is the average distance from the sun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22096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 is the planet closest to the sun at approximately 58 000 000 km. (0.387 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, rocky planet has almost no atmosphere. It only consists of trace amounts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yd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5800" y="152280"/>
            <a:ext cx="1809720" cy="171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5720" y="228600"/>
            <a:ext cx="1557360" cy="18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8458200" y="0"/>
            <a:ext cx="685800" cy="68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2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20231E-007 C -0.08021 0.07214 -0.16024 0.14451 -0.17448 0.24948 C -0.18871 0.35445 -0.0526 0.5304 -0.08559 0.63006 C -0.11857 0.72971 -0.29809 0.83306 -0.37291 0.84786 C -0.44774 0.86266 -0.47795 0.72439 -0.53489 0.71884 C -0.59184 0.7133 -0.68437 0.79792 -0.71423 0.81387 E">
                                      <p:cBhvr>
                                        <p:cTn id="6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60760" y="2419200"/>
            <a:ext cx="2022480" cy="2017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 is about 4,878 km in diameter. It is the second-smallest planet in our Solar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 has no moons, and has no sea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Mercury 88 Earth days to orbit the su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2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0232 C 0.12378 -0.12346 0.02639 -0.65225 -0.04149 -0.7919 C -0.10937 -0.93156 -0.27674 -0.83699 -0.40972 -0.8363 C -0.54306 -0.8356 -0.77674 -0.92069 -0.84149 -0.78797 C -0.90642 -0.65502 -0.93924 -0.16971 -0.79948 -0.03791 C -0.65972 0.09388 -0.12899 0.1281 -0.0026 0.00232 Z">
                                      <p:cBhvr>
                                        <p:cTn id="10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 has a huge range in temperatures ranging from -168°C during the night, to 427°C during the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time and night time each last for 58.6 Earth d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1541520" cy="1811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us is the second planet from the sun in our solar system at 109 000 000 km away. (0.72 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so the hot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can reach up to 480°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600200" cy="1497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23840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3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lanet is covered with fast-moving sulphuric acid clouds which trap heat from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thick atmosphere is mostly carbon dioxi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us has no mo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600200" cy="149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8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us is about 12,104 km in diame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us rotates VERY slowly. Each day on Venus takes 243 Earth d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year on Venus takes 224.7 Earth d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1447920" cy="1425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541008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7800" y="5715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h m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8:44:29Z</dcterms:created>
  <dc:creator>Teacher</dc:creator>
  <dc:description/>
  <dc:language>en-US</dc:language>
  <cp:lastModifiedBy>nbdoe</cp:lastModifiedBy>
  <dcterms:modified xsi:type="dcterms:W3CDTF">2008-02-19T00:32:00Z</dcterms:modified>
  <cp:revision>15</cp:revision>
  <dc:subject/>
  <dc:title>Slide 1</dc:title>
</cp:coreProperties>
</file>